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B9C2-260B-49E2-ACD5-D4EED26C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C454-3317-4475-890B-86AA7BBD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3FE3-4C6E-417A-9A6E-92714A4C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FDFE-906F-4025-91C3-092C8A34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72C3-36B7-4CD7-ACC0-80E919C3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3F76-AA3A-44E3-8582-C4DC3D56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E4E1-3510-49A0-A597-DAE17D86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4194-AAFA-49D0-8C91-A4A3E6B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45D2-B1B0-455C-86E6-FDBD6F8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91AB-E96F-4B8B-9DAE-60E67361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39DF-C2AC-4C70-962A-EC90E2DB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CF09-7695-42A9-BF36-80CA4B5E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D9D-6ACD-4E72-9066-310B9591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8689-B184-41FC-89B9-431E71C7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5215-93AA-47C7-8BAE-A6C1B80C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B128-A4B8-4DF4-967F-0806046C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92E3-E0CB-4DE1-9DEE-AF9E50BB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736B-3019-42D5-8DE0-F745ACDC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151A-9E0F-4509-A322-34DB1ECD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617B-E845-4908-B7E7-098FAD58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192F-C678-4261-9FB9-E65DB566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D3F7-CC93-4215-9646-A1BE59E7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5A97-3F19-422B-AEE5-FE574EE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D3BB-90F2-4162-B050-238FB5A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A235-5AAD-4C14-8EF1-08AC264632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EC47-2C52-48D7-B1E7-C91C29DFE303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24000" y="-317880"/>
            <a:ext cx="856584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казенное образовательное учреждение дополнительного образования «Дом детского творчества» станицы Атаманской муниципального образования Павловский рай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кционная работа на занятиях ОДО «Весёлая грамматика» как средство повышения качества знаний и умений учащихся с особыми образовательными потребностя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156360" y="4962600"/>
            <a:ext cx="258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едагог Д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Шкуринская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468360" y="876600"/>
            <a:ext cx="8136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кци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4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й игре побеждает тот, кто последним назовёт фразеологический оборот, в котором встречаются названия животных, птиц, насеком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https://fs00.infourok.ru/images/doc/234/103500/3/img4.jpg"/>
          <p:cNvPicPr/>
          <p:nvPr/>
        </p:nvPicPr>
        <p:blipFill>
          <a:blip r:embed="rId1"/>
          <a:stretch/>
        </p:blipFill>
        <p:spPr>
          <a:xfrm>
            <a:off x="1908000" y="3645000"/>
            <a:ext cx="54723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250920" y="-1419120"/>
            <a:ext cx="8137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а «Аплодисмент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метьте хлопком фразеологический оборо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олотые зубы, медвежья берлога, медвежья услуга, волчий аппетит, дрова разгорелись, глаза разгорелись, приходить в школу, волчий хвост, сбивать с толку, сбивать с дерева, горькая правда, задрать нос, приходить в голову, горькое лекар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https://i-a.d-cd.net/ZUAAAgHhiOA-1920.jpg"/>
          <p:cNvPicPr/>
          <p:nvPr/>
        </p:nvPicPr>
        <p:blipFill>
          <a:blip r:embed="rId1"/>
          <a:srcRect l="24446" t="8857" r="20767" b="15288"/>
          <a:stretch/>
        </p:blipFill>
        <p:spPr>
          <a:xfrm>
            <a:off x="6443640" y="4581360"/>
            <a:ext cx="2268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539640" y="404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ь загадок волшебного сундучк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https://im0-tub-ru.yandex.net/i?id=a39e39e104fa81cda97d52a282358e79&amp;n=13"/>
          <p:cNvPicPr/>
          <p:nvPr/>
        </p:nvPicPr>
        <p:blipFill>
          <a:blip r:embed="rId1"/>
          <a:stretch/>
        </p:blipFill>
        <p:spPr>
          <a:xfrm>
            <a:off x="1763640" y="1628640"/>
            <a:ext cx="547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79280" y="29052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сказк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 – шуточный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Ею кофе, чай мешают и медленное действие совершают. Ч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 этим овощем дружит горе. Ч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какой посуде чувствуют себя неловк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 этой посуде воду не носят, зато в ней полно чудес. Ч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 какой музыкальный инструмент плясать никому не хоч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нём можно купить кота, но не утаишь шила. Ч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611280" y="35172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ните исконно русскими слова заимств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у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идж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талитет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ло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https://assets.change.org/photos/5/kp/ry/NMKPRYYIOUsEkpd-1600x900-noPad.jpg?1486977450"/>
          <p:cNvPicPr/>
          <p:nvPr/>
        </p:nvPicPr>
        <p:blipFill>
          <a:blip r:embed="rId1"/>
          <a:srcRect l="0" t="0" r="23599" b="0"/>
          <a:stretch/>
        </p:blipFill>
        <p:spPr>
          <a:xfrm>
            <a:off x="3708360" y="2852640"/>
            <a:ext cx="4967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250920" y="-7056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руппируйте парами антони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Явный. 2. Активно. 3. Ничтожны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ечность. 5. Вперед. 6. Всегд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Высоко. 8. Завышать. 9. Крут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Твердый. 11. Нужда. 12. Подлинный. 13. Мгновение. 14. Пассивн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 Скрытый. 16. Великий. 17. Назад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 Никогда. 19. Занижать. 20. Полог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 Мягкий. 22. Достато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. Поддельный. 24. Низк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95280" y="-1768680"/>
            <a:ext cx="85694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берите синони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Надежда. 2. Оплот. 3. Изумительный. 4. Лаконичный. 5. Колоссальный. 6. Любезность. 7. Неотъемлем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Лживый. 9. Грациозный. 10. Факультатив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Краткий. 12. Обыватель. 13. Исполин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Необязательный. 15. Упование. 16. Неотделимый. 17. Изящный. 18. Мещанин. 19. Цитаде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 Комплимент. 21. Спокойный. 22. Мистичес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. Восхитительный. 24. Сиять. 25. Альма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. Блестеть. 27. Невозмутимый. 28. Неискрен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. Сборник. 30. Сверхъестеств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0" y="1069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Этимологический словарь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йчас игроки попробуют себя в роли настоящих этимологов. Дело в том, что их сверстники составили маленькие словарики из предложенных им слов. Посмотрите, что у них получило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логия- раздел ботаники, где рассказывается о разведении аст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дарь- тот, кому ничего не подари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н- муж граф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рман- глупый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тва- обмен рукопожа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мбир- стоматол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иж- парикмах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сячелистник- толстый ром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опоты- аплодис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ертовать- выставить оценки за четвер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жерка- соседка по эта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ень- мерзавец, гадкий т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28600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по морфемике и словообразованию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http://900igr.net/up/datas/159168/001.jpg"/>
          <p:cNvPicPr/>
          <p:nvPr/>
        </p:nvPicPr>
        <p:blipFill>
          <a:blip r:embed="rId1"/>
          <a:srcRect l="0" t="38136" r="48551" b="5165"/>
          <a:stretch/>
        </p:blipFill>
        <p:spPr>
          <a:xfrm>
            <a:off x="2050920" y="2276640"/>
            <a:ext cx="47055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250920" y="476280"/>
            <a:ext cx="8642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Чьё гнездо больше?»</a:t>
            </a:r>
            <a:br>
              <a:rPr sz="3200"/>
            </a:b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витие навыка словообразов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а – за определённое время составить гнездо однокоренных слов, определяя способ словообразования. О результатах докладывает капитан. Обычно даю корни с чередова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–раст-/-ращ-/-рос-; 2)-лаг-/-лож-; 3)-кас-/-кос-; 4)-тир-/-тер- и др.. Побеждает команда, уложившаяся в срок и давшая максимальный список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https://ds04.infourok.ru/uploads/ex/1242/00025c31-c1128b0e/img9.jpg"/>
          <p:cNvPicPr/>
          <p:nvPr/>
        </p:nvPicPr>
        <p:blipFill>
          <a:blip r:embed="rId1"/>
          <a:stretch/>
        </p:blipFill>
        <p:spPr>
          <a:xfrm>
            <a:off x="1332000" y="3573360"/>
            <a:ext cx="6192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324000" y="836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лабоуспевающие учащиеся 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е имеют слабые умственные способности и слабые учебные умения и навыки, низкий уровень памяти или те, у которых отсутствуют действенные мотивы уч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755640" y="182520"/>
            <a:ext cx="838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гвистические задачи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ую пару слов вы исключите? Почему?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ар – поварих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ач – ткачих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к – электричка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ист – журналистк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 – учениц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ьник – мельница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овчанка – ростовчанин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аинец – украинка,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ист – машинистка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50920" y="-17568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ыщите пристав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е, какие из данных слов имеют приставку ПО-, приставку ПОД- или ПОДО- и какие вовсе не имеют пристав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осиновик, подорожник, подоконник, подосадовать, подошва, подолбить, подождать, подоить, подоходный, подозрение, пододеяль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539640" y="476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ые задания, направленные на отработку орфографических 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туационных нор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https://ds02.infourok.ru/uploads/ex/02fa/0003fa99-409ebff6/img13.jpg"/>
          <p:cNvPicPr/>
          <p:nvPr/>
        </p:nvPicPr>
        <p:blipFill>
          <a:blip r:embed="rId1"/>
          <a:srcRect l="11403" t="15596" r="40133" b="2357"/>
          <a:stretch/>
        </p:blipFill>
        <p:spPr>
          <a:xfrm>
            <a:off x="2268360" y="2205000"/>
            <a:ext cx="4535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179280" y="53568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Помоги Пете Ошибки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В слове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ьюг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тя Ошибкин написал твердый знак, так объяснив выбор орфограммы: после приставки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ред гласной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, 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которой начинается корень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г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ишется твердый знак. Согласны ли вы с Пет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В слове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ены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тя написал гласную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«Проверочное слово - сало», -объяснил он. Правильно ли э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ы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тя Ошибкин написал слитно. «Это слово, - сказал он, - можно заменить синонимом без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- отсутствовал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очему он непра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навидел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тетради Пети написано раздельно. «Не с глаголами пишется раздельно», - заявил Ошибк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по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етя написал с буквой о. «После шипящих под ударением пишется о», - объяснил он. Прав ли Пет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324000" y="-29520"/>
            <a:ext cx="849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ловарный дикт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ловарный диктант проводится в виде соревнования: кто быстрее найдет «адрес» слова в орфографическом словаре и объяснит, как это слово написать. Такая работа обычно проводится со словами, не регулируемыми правилами (содержащими непроверяемые гласные и согласные в корне слова, удвоенные согласные):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инегрет, бинокль, обаяние, внимание, трибуна, прийти, электрификация, поливитамины, кофта, одноклассники, футбол, хоккей, рассчит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2"/>
          <p:cNvSpPr/>
          <p:nvPr/>
        </p:nvSpPr>
        <p:spPr>
          <a:xfrm>
            <a:off x="395280" y="47628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Неаккуратная фра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пределить причины смысловой неаккуратности фраз (двусмысленность, неоправданное употребление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 команда сейчас находится в интересном положении! (Передача «Что? Где? Когд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экране телевизора вы видите Гаврилова в красивой комбин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ем и удивлением поразила его смерть всех немцев. (А.Н.Толст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ый поп, одной ногой уже вступивший в гроб, двух молодых венчал перед налоем. (А.С.Пуш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жениха князя Андрея получено было четвёртое письмо, из Риги. (Л.Н.Толст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стьяне трудом своих рук поднялись на ноги. (Шк.соч-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539640" y="47628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кционная работа с использованием игровых технологий помогает в следующе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могает скорректировать темп, ритм учебного 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пособствует развитию личностного роста реб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вышает уровень его обучае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Психологический комфорт, созданный педагогом, повышает мотивацию и стимулирует познавательную ак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Удается  скомпенсировать  проблемы ребенка, довести уровень его развития до возрастн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692360" y="1628640"/>
            <a:ext cx="590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ПАСИБ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З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900000" y="246312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611280" y="1197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лабые дети – это не уродливые, а самые нежные цветы в безгранично разнообразном цветнике человечества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А.Сухомлин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403280" y="836640"/>
            <a:ext cx="70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468360" y="836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ая поддерж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ём «Стряхни»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4" descr="https://userscontent2.emaze.com/images/ceba3071-6fee-4a7c-bd60-dd79e5992b6e/07a0e1e0-0f55-41ba-8e95-b33af7dffbbb"/>
          <p:cNvPicPr/>
          <p:nvPr/>
        </p:nvPicPr>
        <p:blipFill>
          <a:blip r:embed="rId1"/>
          <a:stretch/>
        </p:blipFill>
        <p:spPr>
          <a:xfrm>
            <a:off x="2484360" y="2781360"/>
            <a:ext cx="40672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900000" y="2805120"/>
            <a:ext cx="77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124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жи мне, и я забуду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жи мне, и я запомню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влеки меня, и я увлекус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https://multiurok.ru/img/593103/image_5bf92b5624926.jpg"/>
          <p:cNvPicPr/>
          <p:nvPr/>
        </p:nvPicPr>
        <p:blipFill>
          <a:blip r:embed="rId1"/>
          <a:stretch/>
        </p:blipFill>
        <p:spPr>
          <a:xfrm>
            <a:off x="1979640" y="3429000"/>
            <a:ext cx="51847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835280" y="69228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по фонетике и орфоэп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http://2.bp.blogspot.com/-wkmrj7VR2sQ/VdOvzmY8mzI/AAAAAAAAE9w/mW_QXtkxy1A/w1200-h630-p-k-no-nu/slide_1.jpg"/>
          <p:cNvPicPr/>
          <p:nvPr/>
        </p:nvPicPr>
        <p:blipFill>
          <a:blip r:embed="rId1"/>
          <a:stretch/>
        </p:blipFill>
        <p:spPr>
          <a:xfrm>
            <a:off x="900000" y="2637000"/>
            <a:ext cx="73440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468360" y="-122292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ригласи на обед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дач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 Озвучить меню обеда, на который вы хотите пригласить своего друга (коллегу, знакомого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ю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фтели, щавель, пирожки с творогом, сливовый или грушевый комп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711000" y="-1037520"/>
            <a:ext cx="772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по лексике и фразеолог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https://ds04.infourok.ru/uploads/ex/029e/0004e49d-0c02faa7/640/img8.jpg"/>
          <p:cNvPicPr/>
          <p:nvPr/>
        </p:nvPicPr>
        <p:blipFill>
          <a:blip r:embed="rId1"/>
          <a:srcRect l="46070" t="36228" r="6685" b="7079"/>
          <a:stretch/>
        </p:blipFill>
        <p:spPr>
          <a:xfrm>
            <a:off x="2484360" y="2421000"/>
            <a:ext cx="4319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24000" y="135000"/>
            <a:ext cx="85690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ановить пословицы, части которых соединены неверно. Раскрыть скоб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Бояться (не)счастья - в лес (не)ход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(Не)другу поверить - словам твоим никогда веры (не)буд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Волков бояться - друга обману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(Не)плюй в колодец - стыдно (не)уч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Раз скажешь (не)правду - и счастья (не)вид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(Не)стыдно (не)знать - пригодится воды нап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3:38:00Z</dcterms:created>
  <dc:creator>1</dc:creator>
  <dc:description/>
  <dc:language>en-US</dc:language>
  <cp:lastModifiedBy>Татьяна</cp:lastModifiedBy>
  <dcterms:modified xsi:type="dcterms:W3CDTF">2019-08-26T16:56:47Z</dcterms:modified>
  <cp:revision>23</cp:revision>
  <dc:subject/>
  <dc:title>Слайд 1</dc:title>
</cp:coreProperties>
</file>